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F13-B1AB-40D7-B7E8-EDFC3E54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2FD-7BED-40A9-85A2-11A4F69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A14-6B33-4A92-8A74-B63859CE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E29-E5E6-4666-A8BC-D7DC9F4B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917-FBD8-476C-B9C4-35F92763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02F-CD8E-410D-91E4-F1F0016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DF2-A427-46E9-A91A-BE2A6F16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16B-D6BB-468D-AAD7-43328DD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490-6744-49E8-B3DD-E4586B85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546-E611-4B90-88C0-75BA0CD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722-426F-42EC-96DF-0AE6808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B0A-9B17-48F6-A5D6-05924A8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9B9-FD78-47D1-9B08-75A57D0746BB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19Z</dcterms:modified>
  <cp:revision>2</cp:revision>
  <dc:subject>CNEE</dc:subject>
  <dc:title>CNEE</dc:title>
</cp:coreProperties>
</file>